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DAF-F7D2-4D43-BB31-53660DAA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CBE-23B9-40E8-B259-0D2A0595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EAB-25B1-4038-8DDA-082DF48E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D0C-DA66-47CF-B269-DEE73DC8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2F4-833F-4306-8AAA-3E4BD7FA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BFC-D4CC-4B65-920D-90E67F3C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6DD-520A-4F36-8233-F949D19D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26B-C2DA-4A44-80B7-B8E9BB1A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D4B-D8FF-4B1A-8151-7106F0C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45E-49FB-4232-AEEB-C97A2EB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5E7-D857-417A-8E67-B3A34AC8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643-96DA-40FE-A3D6-DD74144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8A71-EB12-4152-A24B-22122101F0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2520" y="2362320"/>
            <a:ext cx="53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400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76201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5438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167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84872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9:53Z</dcterms:modified>
  <cp:revision>212</cp:revision>
  <dc:subject/>
  <dc:title>Slide 1</dc:title>
</cp:coreProperties>
</file>